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452-8E52-4795-9A45-708D07D4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504-FB6A-4E00-AA35-33529F6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EAA-C7FE-4A09-BE0D-63DCB094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C30-54F6-45D6-9676-7756B622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72F-E195-4F44-963E-59C6DD15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4A7-7EAA-49C2-8DE4-02CA0B9D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FCF-BE36-4EB0-ABF2-9F7BB2B8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97B-E07A-4C32-808E-C9684266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0C7-DDEA-443F-9FD0-D06ED643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CB7-0565-40C9-814F-68D5ED50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44C-645D-41D6-BF0F-4FD73816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E4C-E614-4AF4-B380-56422245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E1A-ED8C-457A-BE2B-5DF391DB2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57200" y="228600"/>
            <a:ext cx="586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stellar"/>
              </a:rPr>
              <a:t>The Signmaker</a:t>
            </a:r>
            <a:r>
              <a:rPr b="1" lang="en-US" sz="6000" spc="-1" strike="noStrike">
                <a:solidFill>
                  <a:srgbClr val="ff0066"/>
                </a:solidFill>
                <a:latin typeface="Arial Rounded MT Bold"/>
              </a:rPr>
              <a:t>’s</a:t>
            </a:r>
            <a:br>
              <a:rPr sz="6000"/>
            </a:br>
            <a:r>
              <a:rPr b="1" lang="en-US" sz="6000" spc="-1" strike="noStrike">
                <a:solidFill>
                  <a:srgbClr val="ff0066"/>
                </a:solidFill>
                <a:latin typeface="Arial Rounded MT Bold"/>
              </a:rPr>
              <a:t>Assist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295280" y="4572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5*Week 5*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685800" y="38088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I knew the plumber would close the door behind h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85800" y="380880"/>
            <a:ext cx="7924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Dad brought a thick cable to hang the sign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85800" y="38088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I promise I will not giggle, mumble, talk, or wriggl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85800" y="380880"/>
            <a:ext cx="79246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I must wrap my knee with a little tape the minute I get hom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685800" y="38088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Rounded MT Bold"/>
              </a:rPr>
              <a:t>Sorry, I forgot the knife for cutting the limb that was caught on the roof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Pj043321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85800" y="0"/>
            <a:ext cx="7924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Rounded MT Bold"/>
              </a:rPr>
              <a:t>Put the gnome and the wreath in the yard by the auto so everybody will see them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54:03Z</dcterms:created>
  <dc:creator>llefever</dc:creator>
  <dc:description/>
  <dc:language>en-US</dc:language>
  <cp:lastModifiedBy>teacher</cp:lastModifiedBy>
  <dcterms:modified xsi:type="dcterms:W3CDTF">2011-03-05T09:28:42Z</dcterms:modified>
  <cp:revision>3</cp:revision>
  <dc:subject/>
  <dc:title>The Signmaker’s Assista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9924563</vt:r8>
  </property>
  <property fmtid="{D5CDD505-2E9C-101B-9397-08002B2CF9AE}" pid="3" name="_AuthorEmail">
    <vt:lpwstr>LLeFever@bcbe.org</vt:lpwstr>
  </property>
  <property fmtid="{D5CDD505-2E9C-101B-9397-08002B2CF9AE}" pid="4" name="_AuthorEmailDisplayName">
    <vt:lpwstr>Lara M. LeFever</vt:lpwstr>
  </property>
  <property fmtid="{D5CDD505-2E9C-101B-9397-08002B2CF9AE}" pid="5" name="_EmailSubject">
    <vt:lpwstr>2nd grade Scott Foresman</vt:lpwstr>
  </property>
</Properties>
</file>